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3C57-4094-40A2-A7A8-5055809E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A0B1-923B-4333-8C52-70BE2EF0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CBAF-4B0A-41F6-B25E-FF88DC891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0AD2-D432-41CE-934B-FDB513AD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12A2-EDE7-4F26-B92E-5001B66C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92C3-E678-4B8A-8444-339720DA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A3CF-9999-4BB8-BF5A-9A0DD215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794E-856E-49BD-B1F0-6C615D92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A092-8749-4A05-A1E6-C5FFB01A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20EA-ECD4-4679-81E8-68E73813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7D28-EAC7-40BB-AEA1-0AAC1196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6103-0D46-4673-B3FC-27A9FBB2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2D0B-F863-4964-9A11-9F3007267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ravis Gerh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A Greek City-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Content Placeholder 4" descr="untitled.bmp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A study of wisdom and the right way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Content Placeholder 4" descr="2.jpg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enne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An area of land nearly surrounded by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Content Placeholder 4" descr="ChalcidiceM.gif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7920" y="0"/>
            <a:ext cx="4953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The war between Athens and Sp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Content Placeholder 4" descr="3.jpg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The kind of government that is run by a small group of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Content Placeholder 4" descr="4.jpg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A sheltered place along coas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Content Placeholder 4" descr="5.bmp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untitled.bmp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Content Placeholder 4" descr="untitled.bmp"/>
          <p:cNvPicPr/>
          <p:nvPr/>
        </p:nvPicPr>
        <p:blipFill>
          <a:blip r:embed="rId1"/>
          <a:stretch/>
        </p:blipFill>
        <p:spPr>
          <a:xfrm>
            <a:off x="0" y="2133720"/>
            <a:ext cx="929628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152280" y="83808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A lawmaking place where people voted on issues that helped their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Content Placeholder 4" descr="imagesCALRYKBB.jpg"/>
          <p:cNvPicPr/>
          <p:nvPr/>
        </p:nvPicPr>
        <p:blipFill>
          <a:blip r:embed="rId1"/>
          <a:stretch/>
        </p:blipFill>
        <p:spPr>
          <a:xfrm>
            <a:off x="0" y="1795320"/>
            <a:ext cx="914400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A person who has certain rights and responsibilities to his or her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Content Placeholder 4" descr="imagesCARQVC6G.jpg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A group of people who lived apart from Greece but kept economic ties with i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Content Placeholder 4" descr="imagesCA0J26CE.jpg"/>
          <p:cNvPicPr/>
          <p:nvPr/>
        </p:nvPicPr>
        <p:blipFill>
          <a:blip r:embed="rId1"/>
          <a:stretch/>
        </p:blipFill>
        <p:spPr>
          <a:xfrm>
            <a:off x="0" y="2098800"/>
            <a:ext cx="914400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A form of government where people vote to make de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Content Placeholder 4" descr="1.jpg"/>
          <p:cNvPicPr/>
          <p:nvPr/>
        </p:nvPicPr>
        <p:blipFill>
          <a:blip r:embed="rId1"/>
          <a:stretch/>
        </p:blipFill>
        <p:spPr>
          <a:xfrm>
            <a:off x="446040" y="1905120"/>
            <a:ext cx="8317080" cy="51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They hear evidence and make decisions in a court of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Content Placeholder 4" descr="imagesCAX91KYB.jpg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Government headed by one ru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Content Placeholder 4" descr="untitled.bmp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2-28T21:51:07Z</dcterms:modified>
  <cp:revision>91</cp:revision>
  <dc:subject/>
  <dc:title>Ancient Greece</dc:title>
</cp:coreProperties>
</file>